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A61-9B0B-42E3-B0E0-78DD2473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rice.edu/~jenky/sports/creat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ryst.bbk.ac.uk/PPS2/course/section12/12_glyc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in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cteria &amp; yea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owse.blogspot.ca/2012/02/role-of-sweetness-in-wine-bala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085-663E-4B74-8C85-D7C9DDAF3BF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reduc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d as primary energy pathway in some bacteria but can also be supplemental in many eukaryotes, e.g., 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k12.org/user:a3F1aWNrQHdlYmIub3Jn/section/Anaerobic-Respiration%253A-ATP%252C-New-Fuels%252C-and-Yogurt-without-Oxyg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8F8C-1DD5-4C18-9134-F5B97F68207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textbookofbacteriology.net/themicrobialworld/Effec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289-BE39-4A83-A10C-EF3F5DE479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B5B-533B-41C3-9C2C-C7A8D5A9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ADB-3628-4C3E-89E0-18A06A08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4DF-AFEF-43FA-82DF-B2626358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41D-F974-47F9-AF67-BD668A32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672-D5A6-4218-A624-11ED34D1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865-9DB8-44AC-886B-4CE49DA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ED1-2BAE-430A-A0D2-D25873D9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409-0561-4309-9AAD-8ACD08A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D67-F25E-4904-99ED-E5E36BBF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0F0-D1B1-45EB-AE92-F870EA4A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8A3-6D8D-4D8C-A7C1-3787FAD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242-806E-45C4-9325-C26C825D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DF76-C137-4A6F-97F5-2F1E1A600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ng Respiration (4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Anaerobic Pathways (4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e 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ATP is used to phosphorylate creatine in some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95840" y="1600200"/>
            <a:ext cx="3789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fruc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ATP, NADH, and citrate all bind to and inhibit the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mentation is the anaerobic reduction of pyruvate to ethanol or 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ctate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24160" y="1905120"/>
            <a:ext cx="449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oducts of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2200" y="1981080"/>
            <a:ext cx="38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karyotes have electron transport chains on internal membran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electron acceptor can b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erobic) or other molecules (anaerobic) such as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03-25T05:02:12Z</dcterms:modified>
  <cp:revision>83</cp:revision>
  <dc:subject/>
  <dc:title>Anaerobic Pathways</dc:title>
</cp:coreProperties>
</file>